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A3A-9817-4C7F-A59E-020015C1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850-809D-4E5F-B2E3-817AA32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049-4131-47E4-B7DF-723C582E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64A-7EDB-46EB-BCE9-5B007C3E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3C3F-46C9-406D-802F-4B4D3AF7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DF92-FB54-4839-9909-6DE5E86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5266-84B5-4E0C-B719-3DD341A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AA86-DEC7-45F3-BDA1-581BCF0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1B51-54B3-49D5-B809-5248854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9BD-F8AF-4939-A3FE-E6E0077F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7E4B-54EB-4C21-8762-FC4871E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FDC-6E3D-468D-8ACD-52DD62E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8F0-E82E-46DA-9B28-0A14B86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318B-1EC4-4E1D-B197-1F9E7B6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CBE6-06F7-4790-8DCA-256D11B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251-4E45-40B5-B145-A6BF11CA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7863-BFF4-44C5-B1F9-524005F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645-0106-41F5-93D7-FBDA23B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538-A31A-4E55-8EEB-6AC7F08A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3BD-2B81-4A53-87C5-2EEAFA7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804-3C54-4589-A563-2D1E50D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8CA-1499-4E0C-8BF3-418410B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06C-DC9A-4E01-919A-AC0A2AAB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DD3-E64A-4F6A-AE14-F827440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562-CE45-4554-BA7A-4CB50D514A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972-E0D1-40D4-ABDF-638FB8C58E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EDUCATION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in GREAT BRITAI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ecture 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Open Univer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ioneer in Distance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in 19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 for a degre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s are taught via TV, radio, the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umber of students is more than 200 000 stud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versity Degre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chelor’s Degre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BA = B.of 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B.of Sciences) – a first (undergraduate) de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Master’s Degre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MA = M. of 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 = M.of Scienc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 second (graduate) de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Doctor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highest academic qualification (PhD = Doctor of Philosoph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tish system of education ha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3 stages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e-school (nursery) (3-4 year olds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prim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5-11 years of age)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second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11-16 years of age)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higher and further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terti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) (18 and over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chool education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ulsory free education at the school level (5% of pupils attend private schools*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s are mostly mix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is not strictly centralised, mostly organised by Local Educational Authorities (LEA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ly in 1988 the National Curriculum was introduced in Engla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= Privat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using terminolog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schools (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 the meaning the term is used in the USA and elsewhere in the wor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i="1" lang="en-US" sz="3200" spc="-1" strike="noStrike">
                <a:solidFill>
                  <a:srgbClr val="33cccc"/>
                </a:solidFill>
                <a:latin typeface="Verdana"/>
              </a:rPr>
              <a:t>in Britain are called “state school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vate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s (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 the meaning it is used in the USA and elsewhere in the wor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i="1" lang="en-US" sz="3200" spc="-1" strike="noStrike">
                <a:solidFill>
                  <a:srgbClr val="33cccc"/>
                </a:solidFill>
                <a:latin typeface="Verdana"/>
              </a:rPr>
              <a:t>in Britain are called “public school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Curricul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 Engla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nsists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re subject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ulsory for 5-16-year-olds: English, math and sciences and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foundation subjects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, history, geography, music, art and modern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Wa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like in England but Welsh is a core subject in Welsh-speaking scho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Scotla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o unified curriculum but educational authorities recommend that schools should follow a broad and balanced curricul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compulsory curriculum made up of religious education and 6 broad areas of study. Also includes 4 compulsory cross-cultural them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NCIPLES OF PUBLIC  EXAM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exams are not set by the government but rather by independent examining boar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oards publish a separate syllabus for each subject. There is no unified school-leaving exam or school-leaving certif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exams have nothing to do with school years as such. They are divorced from the school system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egories of public exa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CSE = General Certificate of Secondary Education. The exams taken by most 15- to 16-year-olds in England, Wales, and Northern Ire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E = Scottish Certificate of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-levels = Advanced Levels. Higher-level academic exams set by the same examining boards that set GCSE exams. They are taken mostly by people around 18 who wish to go on to higher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E ‘Highers’ = The Scottish equivalent of A-leve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ixth 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pils finish school at 16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iversities enroll students no younger that 18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ose, who wish to join universities and still under 18,  study in the sixth for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VERSIT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Oxbrid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2-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.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old Scottish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5-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.c.(Glasgow, Edinburgh, Aberdeen, St.Andrew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early 19-th century English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Durham Univ., the Univ. of London et 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“redbrick”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Birmingham, Manchester, Leeds et 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newer civic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colleg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politechnics→universiti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6:50:37Z</dcterms:created>
  <dc:creator>ALLA</dc:creator>
  <dc:description/>
  <dc:language>en-US</dc:language>
  <cp:lastModifiedBy>ALLA</cp:lastModifiedBy>
  <dcterms:modified xsi:type="dcterms:W3CDTF">2008-04-28T09:14:43Z</dcterms:modified>
  <cp:revision>19</cp:revision>
  <dc:subject/>
  <dc:title>EDUCATION  in GREAT BRITAIN</dc:title>
</cp:coreProperties>
</file>